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whoosh.wav" ContentType="audio/x-wav"/>
  <Override PartName="/ppt/media/A3DSPLH.WAV" ContentType="audio/x-wav"/>
  <Override PartName="/ppt/media/image3.png" ContentType="image/pn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A5C-BD70-4D4C-B367-03A3E80B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2D7-86CC-4FCC-9F2A-C8A3F150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EA2-76A0-4BE6-86CF-1C7CC5B0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BDD-7BF7-40DB-B75E-EA10F5CB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6582-FA81-4EB2-8704-AFE0907D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8B9C-11B7-43A3-9C1A-F8862B58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FC5F-3D8A-465F-AC5B-21577835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A3EE-F817-4CFB-99BE-FDEB4A00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F9DC-2C63-4EDC-BB9F-5CC1F79E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2761-572B-4894-BA82-99C71111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5D5-5656-4753-95CC-63354960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98F-8434-4E96-B316-9AAD248A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24FF-2C83-4375-B628-36634E96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6AED-C49F-4A8E-84F5-8659AB5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4A66-8F29-4C85-9CE3-403CBD37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7BFC-6F9B-4B1E-A4B1-4C1B9F20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831E-0738-4E93-8320-F7B9D22C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681-DE6F-446C-8A20-4265A03A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E40-F178-4A16-BCB3-A83ECF2C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EDF-4FD4-4C34-AC9F-40D21702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F6C-888B-4882-B4D9-9BCF3E2B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650-B8A5-4C41-AB9C-7B74D488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BFF-42F4-4D2D-9D11-68268944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F19-FE63-4183-9A11-C5E41624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F707-72A5-458D-9E2B-5CE623B16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5265-3C28-472F-9EA8-D38EAF644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3DSPL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A3DSPL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3DSPL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A3DSPL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dgar Allan Po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809-184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2362320"/>
            <a:ext cx="190476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SzPct val="75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Short Storie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95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The Tell-Tale Heart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95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The Cask of Amontillado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95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The Black Cat, 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95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The Pit and The Pendulum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Just a Few Tit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ahoma"/>
              </a:rPr>
              <a:t>Poems: 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0066ff"/>
              </a:buClr>
              <a:buSzPct val="105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The Raven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0066ff"/>
              </a:buClr>
              <a:buSzPct val="105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Annabel Lee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0066ff"/>
              </a:buClr>
              <a:buSzPct val="105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To Helen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0066ff"/>
              </a:buClr>
              <a:buSzPct val="105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Lenore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75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75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75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Sometimes strange special effects have been linked to his addiction to opium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Addiction not uncommon in the 1800’s, because of frequent use of laudanum, an opium based medicine, to treat headaches and stomach pain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lu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66ff"/>
              </a:buClr>
              <a:buSzPct val="7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Reference to a famous historical or literary figure or even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0066ff"/>
              </a:buClr>
              <a:buSzPct val="7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est sources are literature, history, Greek myth, and the Bible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0066ff"/>
              </a:buClr>
              <a:buSzPct val="7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Serves to explain or clarify or enhance whatever subjec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othic Elem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upernatural horrors and an atmosphere of unknown terror pervades the a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gh emotion, sentimentalism, but also pronounced anger, surprise, and especially terror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 of words indicating fear, mystery, etc.: apparition, devil, ghost, haunted, terror, fright, faint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ymbo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66ff"/>
              </a:buClr>
              <a:buSzPct val="75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Something that is itself and yet also represents something else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66ff"/>
              </a:buClr>
              <a:buSzPct val="75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Universal symbols embody universally recognizable meanings 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66ff"/>
              </a:buClr>
              <a:buSzPct val="75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Invested symbols are given symbolic meaning by the way an author uses them in a literary work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You will identify how Poe uses allusion, gothic elements, and symbols in “The Pit and the Pendulum.”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1768320" cy="27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is Family and Tragic Lif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Born in Bost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son of traveling actor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ragic and unhappy lif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ragic and Unhappy Lif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Mother died, father deserted him at the age of two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adopted by Mr. and Mrs. John Allan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onstant disagreements with his step-father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. . .continu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Studied briefly at the University of Virginia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rinking and gambling difficulties kept him from continuing at UVA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. . .continu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ff"/>
              </a:buClr>
              <a:buSzPct val="75000"/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Received an appointment to West Point, but he provoked his own dismissa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ff"/>
              </a:buClr>
              <a:buSzPct val="75000"/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aused a final separation between Poe and his step-fathe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. . .continu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In 1836 married his 14 year old cousin, Virginia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ast 12 years of life worked as a journalist, editor, and creative write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. . . continu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ived in poverty stricken condition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In 1846 wife died after a long illnes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. . . continu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ing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ied in Baltimore after he was found in a drunken stupo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Wing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ied a poor ma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e’s Wor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Known for: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ales of mystery and terror sto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roducing the modern detective 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13:08:16Z</dcterms:created>
  <dc:creator>Douglass Schools</dc:creator>
  <dc:description/>
  <dc:language>en-US</dc:language>
  <cp:lastModifiedBy>Barbara Vogt</cp:lastModifiedBy>
  <dcterms:modified xsi:type="dcterms:W3CDTF">2009-07-26T14:10:31Z</dcterms:modified>
  <cp:revision>31</cp:revision>
  <dc:subject/>
  <dc:title>Edgar Allan Poe</dc:title>
</cp:coreProperties>
</file>